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Berlin Sans FB Demi"/>
              </a:rPr>
              <a:t>Click to move the slide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744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384984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0ED49-C86B-4989-8D61-77DF9571E9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CAA162-F5A1-4BAF-9361-7FC0FB4CC379}" type="slidenum">
              <a:rPr b="0" lang="en-GB" sz="1200" spc="-1" strike="noStrike">
                <a:solidFill>
                  <a:srgbClr val="3366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8573A6-9571-4AD4-84DD-E869055A1D81}" type="slidenum">
              <a:rPr b="0" lang="en-GB" sz="1200" spc="-1" strike="noStrike">
                <a:solidFill>
                  <a:srgbClr val="3366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3204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9995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669840"/>
            <a:ext cx="79995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66984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000" y="366984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21932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3400" y="121932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66984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66984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3400" y="366984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7999560" cy="46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99956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152280"/>
            <a:ext cx="7999560" cy="46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66984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219320"/>
            <a:ext cx="7999560" cy="46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3000" y="366984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669840"/>
            <a:ext cx="79995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9995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3669840"/>
            <a:ext cx="79995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66984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3000" y="366984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8720" y="121932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3400" y="121932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366984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8720" y="366984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3400" y="3669840"/>
            <a:ext cx="257544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99956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152280"/>
            <a:ext cx="7999560" cy="46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66984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000" y="366984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000" y="1219320"/>
            <a:ext cx="390348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669840"/>
            <a:ext cx="79995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Berlin Sans FB Demi"/>
              </a:rPr>
              <a:t>Click to edit the title text format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219320"/>
            <a:ext cx="799956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  <a:p>
            <a:pPr lvl="1" marL="741240" indent="-284040">
              <a:lnSpc>
                <a:spcPct val="84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  <a:p>
            <a:pPr lvl="2" marL="1143000" indent="-228600">
              <a:lnSpc>
                <a:spcPct val="84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  <a:p>
            <a:pPr lvl="3" marL="1600200" indent="-228600">
              <a:lnSpc>
                <a:spcPct val="84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  <a:p>
            <a:pPr lvl="4" marL="2057400" indent="-228600">
              <a:lnSpc>
                <a:spcPct val="84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  <a:p>
            <a:pPr lvl="5" marL="2057400" indent="-22860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  <a:p>
            <a:pPr lvl="6" marL="2057400" indent="-22860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336633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58000" y="6178680"/>
            <a:ext cx="2133720" cy="5061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8080" y="5813280"/>
            <a:ext cx="1067040" cy="892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205740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336633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6178680"/>
            <a:ext cx="2133720" cy="50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8080" y="5813280"/>
            <a:ext cx="1067040" cy="892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99956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Berlin Sans FB Demi"/>
              </a:rPr>
              <a:t>Click to edit the title text format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040" y="1219320"/>
            <a:ext cx="799956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336633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00"/>
              </a:spcBef>
              <a:buClr>
                <a:srgbClr val="336633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00"/>
              </a:spcBef>
              <a:buClr>
                <a:srgbClr val="336633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10-10.40 Introduction - Clare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000" spc="-1" strike="noStrike">
                <a:solidFill>
                  <a:srgbClr val="336633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What value online research?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268280"/>
            <a:ext cx="8015400" cy="50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Huge uptake online research methods, especially online questionnaire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Useful in particular situations e.g. researching online populations and previously difficult to contact group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Can mitigate distance and space and so internationalise research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Can save time and money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Safety issue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Different dynamics of communication: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- more neutral venue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- more thoughtful response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- different participants open up/excel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3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But….disadvantages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219320"/>
            <a:ext cx="80010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But digital divide can limit who we talk to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Drop off rates for questionnaires high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Issues of identity verification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Lack of empathy/rapport for interview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Circumstances of interview beyond interviewers control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Technical obstacle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Still need degree of technical competence and institutional support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348000" y="5734080"/>
            <a:ext cx="1513080" cy="8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Careful and critical use ORMs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1052640"/>
            <a:ext cx="80884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So ORMs are not a shortcut 'easy option'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Many issues and problems of onsite research remain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Divide between onsite/online methods inappropriate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Must be used, carefully and critically and appropriately in light of each specific research topic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48000" y="5805360"/>
            <a:ext cx="1513080" cy="887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98560" y="3238560"/>
            <a:ext cx="8066160" cy="1068840"/>
          </a:xfrm>
          <a:prstGeom prst="rect">
            <a:avLst/>
          </a:prstGeom>
          <a:noFill/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33"/>
                </a:solidFill>
                <a:latin typeface="Arial"/>
              </a:rPr>
              <a:t>Attempting to undertake online data collection is far easier than successfully accomplishing it. For those who chose to perform it, they must do so deliberately and cautiously.</a:t>
            </a:r>
            <a:br>
              <a:rPr sz="2000"/>
            </a:br>
            <a:r>
              <a:rPr b="1" lang="en-GB" sz="2000" spc="-1" strike="noStrike">
                <a:solidFill>
                  <a:srgbClr val="336633"/>
                </a:solidFill>
                <a:latin typeface="Arial"/>
              </a:rPr>
              <a:t>(Best and Krueger, 2004) </a:t>
            </a:r>
            <a:endParaRPr b="0" lang="en-US" sz="20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4365720"/>
            <a:ext cx="8064720" cy="1313640"/>
          </a:xfrm>
          <a:prstGeom prst="rect">
            <a:avLst/>
          </a:prstGeom>
          <a:noFill/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33"/>
                </a:solidFill>
                <a:latin typeface="Arial"/>
              </a:rPr>
              <a:t>While online methodological frameworks are in constant flux, change is not necessarily always progressive: there is a need for online researchers to practice their 'craft' with reflexivity. </a:t>
            </a:r>
            <a:br>
              <a:rPr sz="2000"/>
            </a:br>
            <a:r>
              <a:rPr b="1" lang="en-GB" sz="2000" spc="-1" strike="noStrike">
                <a:solidFill>
                  <a:srgbClr val="336633"/>
                </a:solidFill>
                <a:latin typeface="Arial"/>
              </a:rPr>
              <a:t>(Madge and O’Connor, 2005)</a:t>
            </a:r>
            <a:r>
              <a:rPr b="1" lang="en-GB" sz="2000" spc="-1" strike="noStrike">
                <a:solidFill>
                  <a:srgbClr val="336633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336633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f4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4437000"/>
            <a:ext cx="810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b6d4b"/>
                </a:solidFill>
                <a:latin typeface="Arial"/>
              </a:rPr>
              <a:t>Training Researchers in Online Research Methods (TRI-ORM)</a:t>
            </a:r>
            <a:r>
              <a:rPr b="1" lang="en-GB" sz="2000" spc="-1" strike="noStrike">
                <a:solidFill>
                  <a:srgbClr val="3b6d4b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336633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b6d4b"/>
                </a:solidFill>
                <a:latin typeface="Arial"/>
              </a:rPr>
              <a:t>Dr Clare Madge, Dr Jane Wellens, Dr Julia Meek, Dr Tristram Hooley, Mr Rob Shaw</a:t>
            </a:r>
            <a:endParaRPr b="0" lang="en-US" sz="20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79640" y="5734080"/>
            <a:ext cx="1512720" cy="887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67160" y="10843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6633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362916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The trainers 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1235160" cy="1639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3429000"/>
            <a:ext cx="8001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Berlin Sans FB Demi"/>
              </a:rPr>
              <a:t>Dr Clare Madge       Dr Jane Wellens </a:t>
            </a:r>
            <a:br>
              <a:rPr sz="2400"/>
            </a:br>
            <a:br>
              <a:rPr sz="3400"/>
            </a:b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You?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132000" y="5805360"/>
            <a:ext cx="1513080" cy="887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142884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This workshop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1125360"/>
            <a:ext cx="8088480" cy="50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Part of the</a:t>
            </a:r>
            <a:r>
              <a:rPr b="1" lang="en-GB" sz="2400" spc="-1" strike="noStrike">
                <a:solidFill>
                  <a:srgbClr val="336633"/>
                </a:solidFill>
                <a:latin typeface="Arial"/>
              </a:rPr>
              <a:t> TRI-ORM (Training Researchers in Online Research Methods)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 project (May 2007 to May 2009). </a:t>
            </a:r>
            <a:br>
              <a:rPr sz="2400"/>
            </a:br>
            <a:r>
              <a:rPr b="0" lang="en-GB" sz="2400" spc="-1" strike="noStrike">
                <a:solidFill>
                  <a:srgbClr val="4c9f40"/>
                </a:solidFill>
                <a:latin typeface="Arial"/>
              </a:rPr>
              <a:t>ESRC Researcher Development Initiative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Builds on </a:t>
            </a:r>
            <a:r>
              <a:rPr b="1" lang="en-GB" sz="2400" spc="-1" strike="noStrike">
                <a:solidFill>
                  <a:srgbClr val="4c9f40"/>
                </a:solidFill>
                <a:latin typeface="Arial"/>
              </a:rPr>
              <a:t>Exploring Online Research Methods in a Virtual Training Environment</a:t>
            </a: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 (May 2004 to July 2006). ESRC Research Methods Training Programme.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The aim is to stimulate the careful and critical uptake, and further sophisticated use, of Online Research Methods (ORM) and to work towards mainstreaming these innovative methods by building a national and virtual network of research training in ORM.  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5805360"/>
            <a:ext cx="151272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1640" y="974880"/>
            <a:ext cx="3744720" cy="14886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Tahoma"/>
              </a:rPr>
              <a:t>Existing site +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Tahoma"/>
              </a:rPr>
              <a:t>Self-directed study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0"/>
            <a:ext cx="8028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TRI-ORM Project structure 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5813280"/>
            <a:ext cx="1067040" cy="89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5734080"/>
            <a:ext cx="1513080" cy="887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5634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58000" y="6178680"/>
            <a:ext cx="2133720" cy="506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2310840"/>
            <a:ext cx="3744720" cy="192744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3366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Tahoma"/>
              </a:rPr>
              <a:t>Workshops for beginners in online method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4127400"/>
            <a:ext cx="3744720" cy="131940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Tahoma"/>
              </a:rPr>
              <a:t>Accredited 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Tahoma"/>
              </a:rPr>
              <a:t>online course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Tahoma"/>
              </a:rPr>
              <a:t>for advanced user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981000"/>
            <a:ext cx="792000" cy="4464000"/>
          </a:xfrm>
          <a:custGeom>
            <a:avLst/>
            <a:gdLst>
              <a:gd name="textAreaLeft" fmla="*/ 0 w 792000"/>
              <a:gd name="textAreaRight" fmla="*/ 285840 w 79200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7200" y="2421000"/>
            <a:ext cx="256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6633"/>
                </a:solidFill>
                <a:latin typeface="Tahoma"/>
              </a:rPr>
              <a:t>hence </a:t>
            </a:r>
            <a:endParaRPr b="0" lang="en-US" sz="4400" spc="-1" strike="noStrike">
              <a:solidFill>
                <a:srgbClr val="3366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6633"/>
                </a:solidFill>
                <a:latin typeface="Tahoma"/>
              </a:rPr>
              <a:t>TRI</a:t>
            </a:r>
            <a:r>
              <a:rPr b="0" lang="en-GB" sz="4400" spc="-1" strike="noStrike">
                <a:solidFill>
                  <a:srgbClr val="336633"/>
                </a:solidFill>
                <a:latin typeface="Tahoma"/>
              </a:rPr>
              <a:t>-ORM</a:t>
            </a:r>
            <a:endParaRPr b="0" lang="en-US" sz="4400" spc="-1" strike="noStrike">
              <a:solidFill>
                <a:srgbClr val="3366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0"/>
            <a:ext cx="8001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Aim of workshop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907920"/>
            <a:ext cx="807264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33"/>
                </a:solidFill>
                <a:latin typeface="Arial"/>
              </a:rPr>
              <a:t>By the end of the session you will be able to: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Consider when to use (and when not to use) online research methods for your social science research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Develop a basic online questionnaire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Experience a short online interview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Discuss some key ethical and methodological issues surrounding the use of online research method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Access web-based resources and support materials to further develop your skills, knowledge and teaching in online research method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48000" y="5734080"/>
            <a:ext cx="151308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0"/>
            <a:ext cx="7848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Programme of today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836640"/>
            <a:ext cx="80010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1193760"/>
            <a:ext cx="707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742626"/>
                </a:solidFill>
                <a:latin typeface="Arial Unicode MS"/>
              </a:rPr>
              <a:t>10:00 - 10:40  Introduction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 Unicode MS"/>
              </a:rPr>
              <a:t>10:45 - 1.00    Online questionnaire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 Unicode MS"/>
              </a:rPr>
              <a:t>1.00 - 1.45      Lunch 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 Unicode MS"/>
              </a:rPr>
              <a:t>1.45 - 3.00      Online Interviews  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 Unicode MS"/>
              </a:rPr>
              <a:t>3:00 - 3.10      Tea break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 Unicode MS"/>
              </a:rPr>
              <a:t>3.10 - 3.45       Ethics and online research 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 Unicode MS"/>
              </a:rPr>
              <a:t>3.45 - 4.00       Any questions, evaluation, online futures, future directions etc 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92360" y="5734080"/>
            <a:ext cx="151308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88920"/>
            <a:ext cx="80010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What are online research methods?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219320"/>
            <a:ext cx="80010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Online research methods (ORMs) are research methods that utilise internet as medium for research 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Also called internet mediated research (IMR) or online methodologie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Include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336633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6633"/>
                </a:solidFill>
                <a:latin typeface="Arial"/>
                <a:ea typeface="MS Gothic"/>
              </a:rPr>
              <a:t>online questionnaires</a:t>
            </a:r>
            <a:endParaRPr b="0" lang="en-US" sz="2200" spc="-1" strike="noStrike">
              <a:solidFill>
                <a:srgbClr val="3366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336633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6633"/>
                </a:solidFill>
                <a:latin typeface="Arial"/>
                <a:ea typeface="MS Gothic"/>
              </a:rPr>
              <a:t>synchronous and asynchronous interviews</a:t>
            </a:r>
            <a:endParaRPr b="0" lang="en-US" sz="2200" spc="-1" strike="noStrike">
              <a:solidFill>
                <a:srgbClr val="3366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336633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6633"/>
                </a:solidFill>
                <a:latin typeface="Arial"/>
                <a:ea typeface="MS Gothic"/>
              </a:rPr>
              <a:t>virtual ethnographies</a:t>
            </a:r>
            <a:endParaRPr b="0" lang="en-US" sz="2200" spc="-1" strike="noStrike">
              <a:solidFill>
                <a:srgbClr val="336633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336633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336633"/>
                </a:solidFill>
                <a:latin typeface="Arial"/>
                <a:ea typeface="MS Gothic"/>
              </a:rPr>
              <a:t>online experiments etc</a:t>
            </a:r>
            <a:endParaRPr b="0" lang="en-US" sz="22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Today’s focus is on online questionnaires and interview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19640" y="5734080"/>
            <a:ext cx="1512720" cy="8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Your interest in ORM</a:t>
            </a:r>
            <a:endParaRPr b="0" lang="en-US" sz="3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219320"/>
            <a:ext cx="800100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As a group identify: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Some advantages of using online research methods 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Some disadvantages of online research methods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33"/>
                </a:solidFill>
                <a:latin typeface="Arial"/>
              </a:rPr>
              <a:t>The key issue(s) that you wish to explore today</a:t>
            </a: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229360"/>
            <a:ext cx="1655640" cy="1439640"/>
          </a:xfrm>
          <a:prstGeom prst="ellipse">
            <a:avLst/>
          </a:prstGeom>
          <a:solidFill>
            <a:srgbClr val="99cc66"/>
          </a:solidFill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336633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336633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6" dur="600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mputer Centre</dc:creator>
  <dc:description/>
  <dc:language>en-US</dc:language>
  <cp:lastModifiedBy>Clare Madge</cp:lastModifiedBy>
  <cp:revision>0</cp:revision>
  <dc:subject/>
  <dc:title>PowerPoint Presentation</dc:title>
</cp:coreProperties>
</file>