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670200"/>
            <a:ext cx="80010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67020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367020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21896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21896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67020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367020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367020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040" y="152280"/>
            <a:ext cx="80010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67020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3720" y="367020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670200"/>
            <a:ext cx="80010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3670200"/>
            <a:ext cx="80010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67020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3720" y="367020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9440" y="121896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4840" y="121896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367020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9440" y="367020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4840" y="3670200"/>
            <a:ext cx="257616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152280"/>
            <a:ext cx="80010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67020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367020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218960"/>
            <a:ext cx="39042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670200"/>
            <a:ext cx="800100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Berlin Sans FB Demi"/>
              </a:rPr>
              <a:t>Click to edit the title text format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336633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3" name="Picture 8" descr="GREEN LOGO"/>
          <p:cNvPicPr/>
          <p:nvPr/>
        </p:nvPicPr>
        <p:blipFill>
          <a:blip r:embed="rId2"/>
          <a:stretch/>
        </p:blipFill>
        <p:spPr>
          <a:xfrm>
            <a:off x="6858000" y="6178680"/>
            <a:ext cx="2133720" cy="5061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ESRC"/>
          <p:cNvPicPr/>
          <p:nvPr/>
        </p:nvPicPr>
        <p:blipFill>
          <a:blip r:embed="rId3"/>
          <a:stretch/>
        </p:blipFill>
        <p:spPr>
          <a:xfrm>
            <a:off x="838080" y="5813280"/>
            <a:ext cx="1067040" cy="89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onlinelogo150dpi"/>
          <p:cNvPicPr/>
          <p:nvPr/>
        </p:nvPicPr>
        <p:blipFill>
          <a:blip r:embed="rId4"/>
          <a:stretch/>
        </p:blipFill>
        <p:spPr>
          <a:xfrm>
            <a:off x="2057400" y="57913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336633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33"/>
              </a:solidFill>
              <a:latin typeface="Times New Roman"/>
            </a:endParaRPr>
          </a:p>
        </p:txBody>
      </p:sp>
      <p:pic>
        <p:nvPicPr>
          <p:cNvPr id="43" name="Picture 5" descr="GREEN LOGO"/>
          <p:cNvPicPr/>
          <p:nvPr/>
        </p:nvPicPr>
        <p:blipFill>
          <a:blip r:embed="rId2"/>
          <a:stretch/>
        </p:blipFill>
        <p:spPr>
          <a:xfrm>
            <a:off x="6858000" y="6178680"/>
            <a:ext cx="2133720" cy="50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ESRC"/>
          <p:cNvPicPr/>
          <p:nvPr/>
        </p:nvPicPr>
        <p:blipFill>
          <a:blip r:embed="rId3"/>
          <a:stretch/>
        </p:blipFill>
        <p:spPr>
          <a:xfrm>
            <a:off x="838080" y="5813280"/>
            <a:ext cx="1067040" cy="892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Berlin Sans FB Demi"/>
              </a:rPr>
              <a:t>Click to edit the title text format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Berlin Sans FB Demi"/>
              </a:rPr>
              <a:t>1.50- 3.00 Online interviews – tutorial Jane 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33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Scenario 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040" y="121896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33"/>
                </a:solidFill>
                <a:latin typeface="Arial"/>
              </a:rPr>
              <a:t>You are a parent who regularly uses online parenting websites for advice and information.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33"/>
                </a:solidFill>
                <a:latin typeface="Arial"/>
              </a:rPr>
              <a:t>You have agreed to participate in an online synchronous interview about your use of such websites.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33"/>
                </a:solidFill>
                <a:latin typeface="Arial"/>
              </a:rPr>
              <a:t>The interview/focus group has been arranged to take place in a few minutes time.</a:t>
            </a: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Berlin Sans FB Demi"/>
              </a:rPr>
              <a:t>Synchronous Chat Facility</a:t>
            </a:r>
            <a:endParaRPr b="0" lang="en-US" sz="3400" spc="-1" strike="noStrike">
              <a:solidFill>
                <a:srgbClr val="000066"/>
              </a:solidFill>
              <a:latin typeface="Berlin Sans FB Dem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040" y="1218960"/>
            <a:ext cx="8001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33"/>
                </a:solidFill>
                <a:latin typeface="Arial"/>
              </a:rPr>
              <a:t>You will be using the chat facility in Adobe Connect.</a:t>
            </a: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33"/>
                </a:solidFill>
                <a:latin typeface="Arial"/>
              </a:rPr>
              <a:t>Chat rooms have already been established for you.</a:t>
            </a: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33"/>
                </a:solidFill>
                <a:latin typeface="Arial"/>
              </a:rPr>
              <a:t>Enter as a guest.</a:t>
            </a: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33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28840" y="2000160"/>
          <a:ext cx="6095880" cy="37432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rticipants</a:t>
                      </a:r>
                      <a:endParaRPr b="0" lang="en-US" sz="11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hat Room Url</a:t>
                      </a:r>
                      <a:endParaRPr b="0" lang="en-US" sz="11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66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ttps://connect.le.ac.uk/triorm1/</a:t>
                      </a:r>
                      <a:endParaRPr b="0" lang="en-US" sz="16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d3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ttps://connect.le.ac.uk/triorm2/</a:t>
                      </a:r>
                      <a:endParaRPr b="0" lang="en-US" sz="16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a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ttps://connect.le.ac.uk/triorm3/</a:t>
                      </a:r>
                      <a:endParaRPr b="0" lang="en-US" sz="16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d3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ttps://connect.le.ac.uk/triorm4/</a:t>
                      </a:r>
                      <a:endParaRPr b="0" lang="en-US" sz="16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a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ttps://connect.le.ac.uk/triorm5/</a:t>
                      </a:r>
                      <a:endParaRPr b="0" lang="en-US" sz="16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d3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ttps://connect.le.ac.uk/triorm6/</a:t>
                      </a:r>
                      <a:endParaRPr b="0" lang="en-US" sz="1600" spc="-1" strike="noStrike">
                        <a:solidFill>
                          <a:srgbClr val="336633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1:38:04Z</dcterms:created>
  <dc:creator>Computer Centre</dc:creator>
  <dc:description/>
  <dc:language>en-US</dc:language>
  <cp:lastModifiedBy>Clare Madge</cp:lastModifiedBy>
  <dcterms:modified xsi:type="dcterms:W3CDTF">2008-04-28T10:40:24Z</dcterms:modified>
  <cp:revision>44</cp:revision>
  <dc:subject/>
  <dc:title>PowerPoint Presentation</dc:title>
</cp:coreProperties>
</file>